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CD4-56DA-4FFD-AE6C-5E4DA9EB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99C-1F2F-4F0A-84F8-3A64CC13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27E-3B52-4F3E-B0C8-7A9E093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E72-1563-41CB-B8F6-E8BCB261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FA0C-64B7-40FC-A345-A120E262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8903-F146-466D-997D-42157A61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990-11BD-4AE6-BC48-6555EA2A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F60-DC3B-4A05-80EF-EEF09EFE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DB9-2ED3-4CB2-9B45-ED0CEC5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769-57CD-4C7F-BFA0-4FAB3652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B0B5-EB0A-4359-8798-4C5D0D4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A18-39CC-4571-B7F6-355D7AE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E690-EF85-418B-9BC1-78415E5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82F-D2AB-4EA9-BEEC-8539C01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814-6DB4-4942-B3D9-2D2FDCA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85CE-DA5A-4AFE-9E9F-1C231FC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0D1-738E-48C4-AD97-2C7CAB93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4BC-D6E0-45F0-B589-83693D6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A34-E191-4578-BA94-9BC05EA1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B11-5AC3-48A3-8A82-7689CDE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A57-C948-4B29-94C0-160E8175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4EB-D7FF-43B5-9487-BD629AF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275-2389-446E-B4FA-EF9A81D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B5A-847B-40D5-93DA-CCE16637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40B-8B9A-4CD7-8437-F33D77A3001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2AB-27D9-4793-97AD-98D553ACC6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427640" y="3213000"/>
            <a:ext cx="4000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保持乐观的心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295960" y="458136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大丰市万盈二中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ccecff"/>
                </a:solidFill>
                <a:latin typeface="黑体"/>
                <a:ea typeface="黑体"/>
              </a:rPr>
              <a:t>刘广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05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是这样考虑的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保持乐观心态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挫折中分析失败的原因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主动寻找出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继续努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知难而进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取得了进步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有的同学消极悲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一蹶不振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从此对学习失去了信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我保持积极乐观的态度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因为课本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＿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活丰富多彩，充满酸、甜、苦、辣。乐观在于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睡觉前，说一声：今天我充实，明天会更好。继续努力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419640" y="3141720"/>
            <a:ext cx="345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谢谢光临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鸟说：“我从天空中飞过，但天空中没有留下我的痕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结合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回答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小鸟的话反映了它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泰戈尔的话反映了他的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这共同说明了课本中一个什么观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7315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某公司老板派了两个职员到非洲某地考察鞋业市场。结果发现那儿的人都习惯赤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你是职员之一，你认为鞋子在那会有市场吗？回来后，你将怎样向老板汇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其他同学有不同的结论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观点会不一致？你比较欣赏哪一种观点？从课文中找出理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些说明了在日常生活中，我们应该保持什么心态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2098800"/>
            <a:ext cx="64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阅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1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材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思考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面对蜘蛛在非常滑的墙壁上屡爬屡掉、屡掉屡爬的情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个人的看法不同。这说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保持乐观的心态，你应选择哪种看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平时的学习、生活中，如果遇到困难或难题时，应该怎样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《鲁滨孙漂流记》中，鲁滨孙漂流到一个孤岛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将要面对什么样的情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不如意的处境中，他为什么能够生存下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对我们有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不小心踩了你，或污水、粥、泥浆碰脏了你的衣服，把你的书碰掉地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可能怎么做？会有什么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应该怎么做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对比，我们得到什么启示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7921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巩固训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谁选得又快又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泰戈尔说：“天空中没有留下我的痕迹，但我曾经飞过。”这告诉我们：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学会“爱”别人，宽容别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借助运动以保持健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应该善于从生活中发现积极的一面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保持乐观的心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我们在生活中遇到不如意的事情时，正确的态度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要善于在不如意中发现比挫折更有价值的积极的一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忍一忍就过去了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哎，自认倒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下列说法正确的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面对同样的生活，人们的态度是一样的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地看待生活，眼中的世界充满希望，生活中到处是机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乐观的心态要求我们只要看生活和工作中的积极的顺利的因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保持乐观的心态，要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认识到每个人的心态都是自己选择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热爱生活，善于从身边寻找快乐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正确对待生活中的不如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借助运动以保持健康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学会“爱”别人，宽容别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③⑤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②④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①②③④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体验生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身边的同学在学习中遇到困难和挫折时，他们的态度分别是怎样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认为对待生活的正确态度是什么？为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2:11:09Z</dcterms:created>
  <dc:creator>微软用户</dc:creator>
  <dc:description/>
  <dc:language>en-US</dc:language>
  <cp:lastModifiedBy>lgr</cp:lastModifiedBy>
  <dcterms:modified xsi:type="dcterms:W3CDTF">2006-09-22T04:47:47Z</dcterms:modified>
  <cp:revision>9</cp:revision>
  <dc:subject/>
  <dc:title>幻灯片 1</dc:title>
</cp:coreProperties>
</file>