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5330-3C9D-4F4C-B90C-291AE3355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B143-85D4-4FD0-A37D-9EAAA72D0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F134-D49B-45D6-B534-DD40ACEF7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3323-34AB-4F4B-8AAC-8D4DE253C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C96FE-3BAF-4728-8952-48E84B3CE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F42F3-383E-491A-A508-3D7FECC64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3D2A6-49DF-4A9A-A6AA-9CD7B3F20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B9462-7394-4982-B206-7475FCC46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1B10E-CC02-4C3A-9342-A35170C42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FCD91-6B36-4970-A70A-F9F4B5C46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15B34-631D-448B-865E-1303838B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542F-3690-4BCF-ABC0-B5C1A7C5D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A0A29-245F-4EFC-81DD-422F34D1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5EE8A-53C7-4C1E-9FA6-2DE14E4A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328ED-3493-434C-AE73-DA32914D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76E1A-3565-4F4F-9FBF-1091F4A2A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34CAA-2B83-4584-A6B5-C0A976734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FE18-B6CF-43BD-A996-D14471DA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E532-0EB2-4756-990D-71CEDDFD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AB07-F8FD-46F2-8994-B95DC615D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0467-B040-43CC-9225-29299F27F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E161-96B1-4790-8FB7-0483CEEA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4AB9-E1B8-450F-9B4A-8527954D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84FD-B424-4DAD-8EEF-511CA84F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288BC-6755-482E-9F4E-8335D5595856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9BDB6-2BCB-4241-BE8B-1C7AF09E57B2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4427640" y="3213000"/>
            <a:ext cx="400032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隶书"/>
              </a:rPr>
              <a:t>保持乐观的心态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隶书"/>
              <a:ea typeface="隶书"/>
            </a:endParaRPr>
          </a:p>
        </p:txBody>
      </p:sp>
      <p:sp>
        <p:nvSpPr>
          <p:cNvPr id="85" name=""/>
          <p:cNvSpPr/>
          <p:nvPr/>
        </p:nvSpPr>
        <p:spPr>
          <a:xfrm>
            <a:off x="5295960" y="4581360"/>
            <a:ext cx="224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ecff"/>
                </a:solidFill>
                <a:latin typeface="黑体"/>
                <a:ea typeface="黑体"/>
              </a:rPr>
              <a:t>大丰市万盈二中</a:t>
            </a:r>
            <a:r>
              <a:rPr b="1" lang="zh-CN" sz="2400" spc="-1" strike="noStrike">
                <a:solidFill>
                  <a:srgbClr val="ccecff"/>
                </a:solidFill>
                <a:latin typeface="黑体"/>
                <a:ea typeface="黑体"/>
              </a:rPr>
              <a:t>:</a:t>
            </a:r>
            <a:r>
              <a:rPr b="1" lang="zh-CN" sz="2400" spc="-1" strike="noStrike">
                <a:solidFill>
                  <a:srgbClr val="ccecff"/>
                </a:solidFill>
                <a:latin typeface="黑体"/>
                <a:ea typeface="黑体"/>
              </a:rPr>
              <a:t>刘广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40529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11280" y="90792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你是这样考虑的吗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有的同学保持乐观心态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从挫折中分析失败的原因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主动寻找出路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继续努力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知难而进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取得了进步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有的同学消极悲观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一蹶不振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从此对学习失去了信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我保持积极乐观的态度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因为课本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生活丰富多彩，充满酸、甜、苦、辣。乐观在于我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睡觉前，说一声：今天我充实，明天会更好。继续努力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3419640" y="3141720"/>
            <a:ext cx="3456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谢谢光临</a:t>
            </a: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!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68360" y="836640"/>
            <a:ext cx="813600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小鸟说：“我从天空中飞过，但天空中没有留下我的痕迹。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泰戈尔说：“天空中没有留下我的痕迹，但我曾经飞过。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结合课本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回答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小鸟的话反映了它的什么心态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泰戈尔的话反映了他的什么心态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这共同说明了课本中一个什么观点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8360" y="73152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某公司老板派了两个职员到非洲某地考察鞋业市场。结果发现那儿的人都习惯赤脚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如果你是职员之一，你认为鞋子在那会有市场吗？回来后，你将怎样向老板汇报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(2)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其他同学有不同的结论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(3)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为什么观点会不一致？你比较欣赏哪一种观点？从课文中找出理由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(4)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这些说明了在日常生活中，我们应该保持什么心态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87280" y="2098800"/>
            <a:ext cx="6480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阅读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P18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材料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，思考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面对蜘蛛在非常滑的墙壁上屡爬屡掉、屡掉屡爬的情景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三个人的看法不同。这说明了什么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(2)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要保持乐观的心态，你应选择哪种看法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(3)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在平时的学习、生活中，如果遇到困难或难题时，应该怎样想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826560" y="981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在《鲁滨孙漂流记》中，鲁滨孙漂流到一个孤岛上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他将要面对什么样的情况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(2)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在不如意的处境中，他为什么能够生存下来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(3)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这对我们有什么启示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755280" y="83664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同学不小心踩了你，或污水、粥、泥浆碰脏了你的衣服，把你的书碰掉地上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你可能怎么做？会有什么后果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(2)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你应该怎么做？为什么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(3)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通过对比，我们得到什么启示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11280" y="620280"/>
            <a:ext cx="79214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812880" indent="-81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巩固训练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看谁选得又快又准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泰戈尔说：“天空中没有留下我的痕迹，但我曾经飞过。”这告诉我们：（    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应该学会“爱”别人，宽容别人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要借助运动以保持健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应该善于从生活中发现积极的一面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保持乐观的心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当我们在生活中遇到不如意的事情时，正确的态度是（    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要善于在不如意中发现比挫折更有价值的积极的一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忍一忍就过去了 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哎，自认倒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下列说法正确的是（    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面对同样的生活，人们的态度是一样的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乐观地看待生活，眼中的世界充满希望，生活中到处是机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乐观的心态要求我们只要看生活和工作中的积极的顺利的因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保持乐观的心态，要（    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认识到每个人的心态都是自己选择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热爱生活，善于从身边寻找快乐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③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正确对待生活中的不如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④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借助运动以保持健康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⑤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学会“爱”别人，宽容别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①③⑤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②④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①②③④⑤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体验生活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你身边的同学在学习中遇到困难和挫折时，他们的态度分别是怎样的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你认为对待生活的正确态度是什么？为什么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2:11:09Z</dcterms:created>
  <dc:creator>微软用户</dc:creator>
  <dc:description/>
  <dc:language>en-US</dc:language>
  <cp:lastModifiedBy>lgr</cp:lastModifiedBy>
  <dcterms:modified xsi:type="dcterms:W3CDTF">2006-09-22T04:47:47Z</dcterms:modified>
  <cp:revision>9</cp:revision>
  <dc:subject/>
  <dc:title>幻灯片 1</dc:title>
</cp:coreProperties>
</file>