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2.jpeg" ContentType="image/jpeg"/>
  <Override PartName="/ppt/media/image9.png" ContentType="image/png"/>
  <Override PartName="/ppt/media/image21.jpeg" ContentType="image/jpeg"/>
  <Override PartName="/ppt/media/image19.jpeg" ContentType="image/jpeg"/>
  <Override PartName="/ppt/media/image3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8.wmf" ContentType="image/x-wmf"/>
  <Override PartName="/ppt/media/image37.jpeg" ContentType="image/jpeg"/>
  <Override PartName="/ppt/media/image23.jpeg" ContentType="image/jpeg"/>
  <Override PartName="/ppt/media/image12.png" ContentType="image/png"/>
  <Override PartName="/ppt/media/image44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3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4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6.png" ContentType="image/png"/>
  <Override PartName="/ppt/media/image48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D9E-44D1-48F7-8564-8AB458B7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780-4081-4229-8704-E8B82BA1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11CE-1D25-466A-B1A4-2D1CE7189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597-8939-4C1E-8429-EF68849AA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A845-A914-4ACF-BC29-C67F44110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B305-3DE8-41BE-A961-D84B93DF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F60DF-D87B-4147-991C-681AC616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4B68B-9070-4825-A0F8-823FF669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C857-1199-469B-8C72-D4ACAB2F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E05F-0437-40FC-B9B5-10EF8F29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DD80-730F-4162-89A9-0A160740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8D67-319C-46BF-90B7-E5705A29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F8FC-FE3A-44D2-9C20-AA6BCFED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E332-4040-43CA-B5CC-E9E59903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E5F8-6AB7-432A-B470-09A2BB736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28E7-A856-4FC3-B7D1-E254C60A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889C-32C3-4EC9-8235-C17004C4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36F41-9638-47EF-9FD3-C03E539E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9274-5BFA-4688-A6B8-8FE1134F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5F92-3CC5-4D29-8153-4B99F157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4349F-80CB-4708-98C8-0E5654A2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3AB4-1046-4157-A213-8542C3626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8A0-82C4-424E-9721-62DB7003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E05A0-BEF2-4C86-9D7F-EC23D2EE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88C5F-BDF6-4C6A-B463-872D0DAC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3D744-2669-4329-B371-819CC0E9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09465-542F-4AAC-8AD2-2B932EE45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6CCE-72C7-4F7F-92E3-670D3C10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D922B-8E5B-44C8-918D-A1763290C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A3581-DACC-48E7-BB80-7B0C5D4D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48D3E-7DBE-4816-8D6A-66F0D35D5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83F6C-9DBA-4184-B1C6-DE1810EE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DB344C-7ADA-42FC-B8C0-2C5DB3C5B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1E9-C5BD-4296-A46F-C54B158C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8DBBAA-0625-4DCC-A71A-1CF07A3E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41565-4792-4E40-82F0-6B0FA355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2230A-89DC-46E2-8A3A-119434D9A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16CA6-42B3-40F8-BE98-ADF2451C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D8976-A6CC-4EF4-B6E2-B9B0C117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64A18-8E58-432E-9DB8-9C17F8B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759C3D-5A56-47AC-B357-63ABF435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1B61-2D1F-43B0-B417-41BD6F9EC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A378C-356A-4F6E-9DE5-8A651930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263C7-A8DA-46E2-9474-2CA1150AE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BA38-84F4-41FA-93C8-6CD3716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947A6-195F-4924-8939-EAFB7751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3CD38-CDEC-4939-B083-C8947328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D5895-278D-496D-B3EB-6CFCA24E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CBE90-A7C5-4F65-BB41-7008BF3C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FFFE6-C1A4-4081-8793-E46820BB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A1526-887C-4B81-9756-757BC005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DD91-BC5E-4CFA-84B6-9F97A9A4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DD91C-761A-4A6D-8240-56A47D8A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86206-6527-45F2-B183-CDA6F907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B1685-FD37-4EFD-849A-7A7FD399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144-DD8D-44EA-A9D8-6F838D92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FA16E-D11C-43B6-A835-A6ABC6E6F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D84A-C5B4-47B3-80DA-3FA728F0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3218-E59D-48FD-86D6-4CCE59BBB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1605-AA67-47AF-B8B2-28645D6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53AD-8511-402C-95E9-D7B346AE3A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ACF50-3799-4BF7-9ACB-4A62F5DBAA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C2B1-BD55-4F6E-B142-2088BD3B2A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2E0D-0C56-4183-B879-7E78E13A85DC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2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3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ACAC-81E4-4CA2-AEEF-4FA5493ADB06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10.cbern.gov.cn/computer/upload/c2004/200420140988/xinshang/default2.htm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ews.xinhuanet.com/forum/2004-10/29/xinsrc_32210012814466302695710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" Target="slide14.xml"/><Relationship Id="rId4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2.xml"/><Relationship Id="rId3" Type="http://schemas.openxmlformats.org/officeDocument/2006/relationships/image" Target="../media/image32.gif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2050920" y="3500280"/>
            <a:ext cx="48862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关爱社会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225" name=""/>
          <p:cNvSpPr/>
          <p:nvPr/>
        </p:nvSpPr>
        <p:spPr>
          <a:xfrm>
            <a:off x="2462040" y="5373720"/>
            <a:ext cx="382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惠州市南山学校  李大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26920" y="836640"/>
            <a:ext cx="77724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问一问：上世纪七十年代、八十年代的三大件分别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想一想：这种幸福来之不易，其原因是什么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听一听：《春天的故事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8360" y="4842000"/>
            <a:ext cx="3024000" cy="2016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Arial"/>
                <a:ea typeface="华文新魏"/>
              </a:rPr>
              <a:t>二、社会问题不容忽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380000" y="1628640"/>
            <a:ext cx="86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cc33"/>
                </a:solidFill>
                <a:latin typeface="Arial"/>
                <a:ea typeface="黑体"/>
              </a:rPr>
              <a:t>防恐演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400040"/>
            <a:ext cx="756144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80884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324000" y="692280"/>
            <a:ext cx="848340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024840" cy="59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0881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地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0" y="1160640"/>
            <a:ext cx="91440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-1116000" y="0"/>
            <a:ext cx="9929880" cy="70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行楷"/>
              </a:rPr>
              <a:t>艾滋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51404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一、社会发展日新月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258920" y="2349360"/>
            <a:ext cx="41036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瞧一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228" name="" descr="按此在新窗口浏览图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4314960"/>
            <a:ext cx="2954520" cy="2093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9308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414440" y="0"/>
            <a:ext cx="63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547640" y="19080"/>
            <a:ext cx="7201080" cy="68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533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多子多福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a36.JPG (12039 bytes)"/>
          <p:cNvPicPr/>
          <p:nvPr/>
        </p:nvPicPr>
        <p:blipFill>
          <a:blip r:embed="rId1"/>
          <a:stretch/>
        </p:blipFill>
        <p:spPr>
          <a:xfrm>
            <a:off x="1066680" y="149400"/>
            <a:ext cx="3962520" cy="30510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1066680" y="3402000"/>
            <a:ext cx="4038840" cy="3151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867280" y="56689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满为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494160" cy="4876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我国人口增长示意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838080" y="1219320"/>
          <a:ext cx="7323120" cy="48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323120" cy="48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">
            <a:hlinkClick r:id="rId3" action="ppaction://hlinksldjump"/>
          </p:cNvPr>
          <p:cNvSpPr/>
          <p:nvPr/>
        </p:nvSpPr>
        <p:spPr>
          <a:xfrm>
            <a:off x="8534520" y="63244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75"/>
              </a:gs>
              <a:gs pos="50000">
                <a:srgbClr val="00ccff"/>
              </a:gs>
              <a:gs pos="100000">
                <a:srgbClr val="00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0" y="-1526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中、印、美等国万人中的在校大学生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1515960" y="1400040"/>
          <a:ext cx="6104160" cy="406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5960" y="1400040"/>
                    <a:ext cx="6104160" cy="40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1078200" cy="555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9900"/>
                </a:solidFill>
                <a:latin typeface="Times New Roman"/>
              </a:rPr>
              <a:t>天安门内外垃圾遍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244840" cy="6977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8280360" cy="5545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4000" y="57340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黄埔油库门口油罐车车龙长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生物物种加速灭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326880" y="685800"/>
            <a:ext cx="8588520" cy="5938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458200" y="6343560"/>
            <a:ext cx="685800" cy="514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1295280" y="990720"/>
            <a:ext cx="6553440" cy="4914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" dur="1" fill="hold"/>
                                        <p:tgtEl>
                                          <p:spTgt spid="3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大气污染严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550000" cy="57722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90440" y="838080"/>
            <a:ext cx="8801280" cy="576108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1981080" y="10666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" dur="1" fill="hold"/>
                                        <p:tgtEl>
                                          <p:spTgt spid="3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8607600" cy="5875200"/>
          </a:xfrm>
          <a:prstGeom prst="rect">
            <a:avLst/>
          </a:prstGeom>
          <a:ln w="0">
            <a:noFill/>
          </a:ln>
        </p:spPr>
      </p:pic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水体污染严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263520" y="685800"/>
            <a:ext cx="8880480" cy="57610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8686800" cy="54640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396720" y="685800"/>
            <a:ext cx="8366400" cy="6035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500"/>
                            </p:stCondLst>
                            <p:childTnLst>
                              <p:par>
                                <p:cTn id="63" nodeType="afterEffect" fill="hold" presetClass="entr" presetID="14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00"/>
                            </p:stCondLst>
                            <p:childTnLst>
                              <p:par>
                                <p:cTn id="68" nodeType="afterEffect" fill="hold" presetClass="entr" presetID="16" presetSubtype="2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2000"/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垃圾包围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城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0" y="1314360"/>
            <a:ext cx="8686800" cy="5543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0" y="1200240"/>
            <a:ext cx="9144000" cy="56577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4"/>
          <a:stretch/>
        </p:blipFill>
        <p:spPr>
          <a:xfrm>
            <a:off x="263520" y="1074600"/>
            <a:ext cx="8880480" cy="578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451640" y="1413000"/>
            <a:ext cx="86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儿子被拐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670428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380360" y="1484280"/>
            <a:ext cx="79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隶书"/>
              </a:rPr>
              <a:t>饿晕火车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95280" y="1116000"/>
            <a:ext cx="691992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三、我们即将行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看了这些图片，想一想，我们作青少年该怎样做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-612720" y="0"/>
            <a:ext cx="9756720" cy="685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671480" y="170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1280" y="981000"/>
            <a:ext cx="8101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99"/>
                </a:solidFill>
                <a:latin typeface="Arial"/>
                <a:ea typeface="华文琥珀"/>
              </a:rPr>
              <a:t>读一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我们、青少年应该做到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增强忧患意识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培养回报社会意识和亲社会行为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、服务社会，有所作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00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50000">
              <a:srgbClr val="ffffff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2692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忧患意识：关注社会、国家、人民，对其可能的危难抱有警惕，并激发战胜困境的决心和勇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亲社会行为：有利于社会和他人的行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、我们享用的每一件物品，得到的每一种帮助，无不是他人的智慧、劳动和爱心的付出，因此，尽力回报社会就是我们理所当然的选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68360" y="4581360"/>
            <a:ext cx="3565440" cy="160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查一查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1" name=""/>
          <p:cNvSpPr/>
          <p:nvPr/>
        </p:nvSpPr>
        <p:spPr>
          <a:xfrm>
            <a:off x="1828800" y="155736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华文琥珀"/>
              </a:rPr>
              <a:t>      </a:t>
            </a: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华文隶书"/>
              </a:rPr>
              <a:t>青少年可以参加哪些服务社会的活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-387360"/>
            <a:ext cx="9612360" cy="856944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6836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99"/>
                </a:solidFill>
                <a:latin typeface="Arial"/>
                <a:ea typeface="隶书"/>
              </a:rPr>
              <a:t>你想为社会做点什么？具体怎么做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116000" y="4724280"/>
            <a:ext cx="36003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行动方案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0" y="-184320"/>
            <a:ext cx="10874520" cy="70423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327480" y="2066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211400" y="0"/>
            <a:ext cx="67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468360" y="1671480"/>
            <a:ext cx="8136000" cy="43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551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019640" y="836640"/>
            <a:ext cx="91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cc33"/>
                </a:solidFill>
                <a:latin typeface="Arial"/>
                <a:ea typeface="黑体"/>
              </a:rPr>
              <a:t>文化生活丰富多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61920"/>
            <a:ext cx="684036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333360"/>
            <a:ext cx="82296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9T11:47:04Z</dcterms:created>
  <dc:creator>lidafu</dc:creator>
  <dc:description/>
  <dc:language>en-US</dc:language>
  <cp:lastModifiedBy>lidafu</cp:lastModifiedBy>
  <dcterms:modified xsi:type="dcterms:W3CDTF">2005-12-30T11:47:42Z</dcterms:modified>
  <cp:revision>9</cp:revision>
  <dc:subject/>
  <dc:title>幻灯片 1</dc:title>
</cp:coreProperties>
</file>