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8.wmf" ContentType="image/x-wmf"/>
  <Override PartName="/ppt/media/image37.jpeg" ContentType="image/jpeg"/>
  <Override PartName="/ppt/media/image23.jpeg" ContentType="image/jpeg"/>
  <Override PartName="/ppt/media/image12.png" ContentType="image/png"/>
  <Override PartName="/ppt/media/image44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png" ContentType="image/png"/>
  <Override PartName="/ppt/media/image48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143-5054-41D8-B1AC-0E5435B1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324-A8E2-47FE-A015-38357E62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062-DC2D-473C-821B-C74001B0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47F-6076-4694-8FCD-D63B4DE5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2A3A-B8A9-45FF-B137-46DC997F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ACF3-632A-4729-AFE0-888265FE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8EDD-B677-4327-B9DF-7D54FE70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89F4-6421-40BA-9639-FCF35CDF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7EFE-43DE-4C26-B251-8A7C43E0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0C71-3F0E-4C0B-870F-367AD930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941A-64AD-41CC-86EE-6B12FAEF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DA7-3322-423B-8CBA-61C02684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87AF-1AC8-4ACF-B9F6-76223ED5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7AF9-8CEF-41BC-8878-2980764B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3CBE-E69B-4647-BFF8-E1BD47E5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11EF-B488-434A-8732-BD01F2A2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B241-010B-4779-8D56-8A188A7F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2642-A357-4F50-B052-D0DB9FDF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3E47-C373-474E-A158-BAC7B225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FBA0-B394-4BF2-BD8B-B1F052CC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B970-C943-49A3-804E-45097498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ABDB-F8DE-4E2C-B6C3-7F1EADCF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FDD-802A-445F-98E6-6D7587CE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8955-4C03-4CBC-BE8A-5C8F6F0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4459-6F9D-4F30-B1E7-47D219A9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7B03-830D-41D6-88CE-79B11DA2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FE5C-0666-4AB7-A27A-31A162A0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AE948-B0FD-4549-B9AD-C92F19A3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E6F9-B272-4CB9-B318-F42CD023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F163F-FC45-4399-8A77-CFF75C13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61181-B53B-4F13-A7F4-2AD7655C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D83E9-5DF3-4732-A134-6C279AA7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F7DB-FD63-401D-B20B-D70FC4B7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3AD-F4EC-457E-A1AD-C447AE3D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C242-4DC5-4C96-976B-0CA6D48B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0054-3D53-4D2C-921F-13B828E7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3F4AE-EBBC-493F-B85F-84037E59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342B-51BF-4003-81D6-DEC0E22D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A202-C3EB-4C90-A518-42B3E94A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2D87-52D2-4D10-B52A-676E89C5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BF24-CB3B-4E98-AB57-FCF78805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DA7CB-0EC2-4F55-81FF-8680558B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211DC-1E76-4D35-924E-664A96A0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7C776-C36D-458A-B014-211446F5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914-E78A-4D69-AEB5-DA0DD316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3BEA9-F5D5-4497-9BA3-539CD227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C60F9-F1EF-4CF8-83FB-EFC1CDD4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66DD3-00CD-4F38-9D47-36C90A06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0910B-EB0C-4C6D-88A3-E82FC397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04514-62BD-47FC-B248-B9ADEBEB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07517-94D8-44E4-BA5B-462C5499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956F5-5B81-41B2-BE1B-AC9C5A75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4AC0F-9373-4162-8602-B003633D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8A8A5-66EB-43CE-814A-0241C72B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CC28C-D777-4120-BC1A-12CCE26E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CAE-A8CF-4CB9-8F1A-FCE1D2E5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CF495-815F-40D6-83CC-428B9652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434-424B-47F5-AC77-5FD300B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B03-B685-4A24-BD45-7D368319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55D-4E80-403A-88A4-B91F0E32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9C56-78C0-42B3-A5DB-C42C53B20D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12E8-0082-4CA7-A136-3F58EE18BC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8AC2-8636-44F0-AD44-C61C76980E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C4DB-FC48-4B5C-BB3A-39017C16AF0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D11B-ABF0-4ABE-AF31-7FFCE0DF6A9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10.cbern.gov.cn/computer/upload/c2004/200420140988/xinshang/default2.htm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ws.xinhuanet.com/forum/2004-10/29/xinsrc_3221001281446630269571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image" Target="../media/image32.gif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050920" y="3500280"/>
            <a:ext cx="4886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关爱社会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25" name=""/>
          <p:cNvSpPr/>
          <p:nvPr/>
        </p:nvSpPr>
        <p:spPr>
          <a:xfrm>
            <a:off x="2462040" y="5373720"/>
            <a:ext cx="382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惠州市南山学校  李大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6920" y="83664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问一问：上世纪七十年代、八十年代的三大件分别是什么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想一想：这种幸福来之不易，其原因是什么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听一听：《春天的故事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842000"/>
            <a:ext cx="302400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二、社会问题不容忽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380000" y="1628640"/>
            <a:ext cx="86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  <a:ea typeface="黑体"/>
              </a:rPr>
              <a:t>防恐演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400040"/>
            <a:ext cx="756144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088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834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0248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0881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地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9929880" cy="70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艾滋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635280" y="260280"/>
            <a:ext cx="5140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一、社会发展日新月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58920" y="2349360"/>
            <a:ext cx="4103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瞧一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28" name="" descr="按此在新窗口浏览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314960"/>
            <a:ext cx="2954520" cy="2093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93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414440" y="0"/>
            <a:ext cx="63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547640" y="19080"/>
            <a:ext cx="720108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53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多子多福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a36.JPG (12039 bytes)"/>
          <p:cNvPicPr/>
          <p:nvPr/>
        </p:nvPicPr>
        <p:blipFill>
          <a:blip r:embed="rId1"/>
          <a:stretch/>
        </p:blipFill>
        <p:spPr>
          <a:xfrm>
            <a:off x="1066680" y="149400"/>
            <a:ext cx="3962520" cy="3051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066680" y="3402000"/>
            <a:ext cx="4038840" cy="3151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867280" y="5668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满为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49416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人口增长示意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838080" y="1219320"/>
          <a:ext cx="7323120" cy="48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32312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、印、美等国万人中的在校大学生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15960" y="1400040"/>
          <a:ext cx="6104160" cy="40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400040"/>
                    <a:ext cx="610416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107820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天安门内外垃圾遍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244840" cy="6977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0360" cy="5545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24000" y="57340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黄埔油库门口油罐车车龙长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物物种加速灭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26880" y="685800"/>
            <a:ext cx="8588520" cy="5938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34356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1295280" y="99072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气污染严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50000" cy="5772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90440" y="838080"/>
            <a:ext cx="8801280" cy="5761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1981080" y="10666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07600" cy="58752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水体污染严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263520" y="685800"/>
            <a:ext cx="8880480" cy="5761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8686800" cy="54640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396720" y="685800"/>
            <a:ext cx="8366400" cy="6035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垃圾包围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城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686800" cy="5543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0" y="1200240"/>
            <a:ext cx="9144000" cy="56577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263520" y="1074600"/>
            <a:ext cx="8880480" cy="578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51640" y="1413000"/>
            <a:ext cx="8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儿子被拐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70428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380360" y="1484280"/>
            <a:ext cx="79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饿晕火车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95280" y="1116000"/>
            <a:ext cx="6919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、我们即将行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看了这些图片，想一想，我们作青少年该怎样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612720" y="0"/>
            <a:ext cx="975672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7148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1280" y="981000"/>
            <a:ext cx="81010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琥珀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我们、青少年应该做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、增强忧患意识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、培养回报社会意识和亲社会行为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、服务社会，有所作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、忧患意识：关注社会、国家、人民，对其可能的危难抱有警惕，并激发战胜困境的决心和勇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、亲社会行为：有利于社会和他人的行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、我们享用的每一件物品，得到的每一种帮助，无不是他人的智慧、劳动和爱心的付出，因此，尽力回报社会就是我们理所当然的选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-184320"/>
            <a:ext cx="10874520" cy="70423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68360" y="4581360"/>
            <a:ext cx="3565440" cy="160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查一查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155736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琥珀"/>
              </a:rPr>
              <a:t>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隶书"/>
              </a:rPr>
              <a:t>青少年可以参加哪些服务社会的活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612360" cy="85694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隶书"/>
              </a:rPr>
              <a:t>你想为社会做点什么？具体怎么做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116000" y="4724280"/>
            <a:ext cx="3600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行动方案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-184320"/>
            <a:ext cx="10874520" cy="70423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32748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1400" y="0"/>
            <a:ext cx="67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1671480"/>
            <a:ext cx="81360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019640" y="836640"/>
            <a:ext cx="91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Arial"/>
                <a:ea typeface="黑体"/>
              </a:rPr>
              <a:t>文化生活丰富多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1920"/>
            <a:ext cx="684036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1:47:04Z</dcterms:created>
  <dc:creator>lidafu</dc:creator>
  <dc:description/>
  <dc:language>en-US</dc:language>
  <cp:lastModifiedBy>lidafu</cp:lastModifiedBy>
  <dcterms:modified xsi:type="dcterms:W3CDTF">2005-12-30T11:47:42Z</dcterms:modified>
  <cp:revision>9</cp:revision>
  <dc:subject/>
  <dc:title>幻灯片 1</dc:title>
</cp:coreProperties>
</file>