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453-D6EE-4A00-B283-BD1F143A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DB1-DEE9-40C9-B653-B4D5496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0A8-879D-453A-A194-FAE29D0A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ED2-2C45-442D-93B6-F92E751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032-0F7D-4461-B58C-EB005232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813-343B-437C-B7C0-615E785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23E-D2B1-45F4-B76F-0FF2DCF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529-9D1B-4FB9-B79C-203C17D0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049-118D-4E94-BDBF-B91D303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F1D-140A-4644-9C94-DC0DA807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2B8-05C5-4C84-BD26-7090DB7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CA9-6C42-4CAE-A237-A33E1E8F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0B2C-6746-45EC-8F8A-BE12AE4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E72-9186-4C49-8B04-FDDFDED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2285-0DE5-45A4-BED1-8C1C00A2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C5F-440F-4C06-B800-B11A8F5C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EE0-5A52-43F8-A5AD-C44A2A54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EA5-6C0F-4699-899C-1AA15F0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3DE-B737-4ABA-886D-9374FFD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F06-519F-4211-B7B0-39C470B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84B-FCB0-494D-A073-A42E4786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EB2-8A8E-4B9C-ADD4-FACF24D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8B7-938D-4C12-A990-537C9086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50A-3DD7-438C-B59C-0D86FCB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4E8-4113-48BA-9BE1-93567DEDC9F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148-8284-4019-A01B-56DDAAAB8E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427640" y="3213000"/>
            <a:ext cx="4000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保持乐观的心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295960" y="458136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大丰市万盈二中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刘广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5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是这样考虑的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保持乐观心态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挫折中分析失败的原因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主动寻找出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继续努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知难而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取得了进步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消极悲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一蹶不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此对学习失去了信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我保持积极乐观的态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因为课本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活丰富多彩，充满酸、甜、苦、辣。乐观在于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睡觉前，说一声：今天我充实，明天会更好。继续努力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19640" y="314172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谢谢光临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鸟说：“我从天空中飞过，但天空中没有留下我的痕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回答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小鸟的话反映了它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泰戈尔的话反映了他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这共同说明了课本中一个什么观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315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某公司老板派了两个职员到非洲某地考察鞋业市场。结果发现那儿的人都习惯赤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你是职员之一，你认为鞋子在那会有市场吗？回来后，你将怎样向老板汇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他同学有不同的结论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观点会不一致？你比较欣赏哪一种观点？从课文中找出理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些说明了在日常生活中，我们应该保持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2098800"/>
            <a:ext cx="64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阅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材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思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蜘蛛在非常滑的墙壁上屡爬屡掉、屡掉屡爬的情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个人的看法不同。这说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保持乐观的心态，你应选择哪种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平时的学习、生活中，如果遇到困难或难题时，应该怎样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《鲁滨孙漂流记》中，鲁滨孙漂流到一个孤岛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将要面对什么样的情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不如意的处境中，他为什么能够生存下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对我们有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不小心踩了你，或污水、粥、泥浆碰脏了你的衣服，把你的书碰掉地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可能怎么做？会有什么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应该怎么做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对比，我们得到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7921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巩固训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谁选得又快又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这告诉我们：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学会“爱”别人，宽容别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借助运动以保持健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善于从生活中发现积极的一面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保持乐观的心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我们在生活中遇到不如意的事情时，正确的态度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善于在不如意中发现比挫折更有价值的积极的一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忍一忍就过去了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哎，自认倒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下列说法正确的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面对同样的生活，人们的态度是一样的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地看待生活，眼中的世界充满希望，生活中到处是机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的心态要求我们只要看生活和工作中的积极的顺利的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保持乐观的心态，要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识到每个人的心态都是自己选择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爱生活，善于从身边寻找快乐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正确对待生活中的不如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借助运动以保持健康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会“爱”别人，宽容别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③⑤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②④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②③④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体验生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身边的同学在学习中遇到困难和挫折时，他们的态度分别是怎样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认为对待生活的正确态度是什么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11:09Z</dcterms:created>
  <dc:creator>微软用户</dc:creator>
  <dc:description/>
  <dc:language>en-US</dc:language>
  <cp:lastModifiedBy>lgr</cp:lastModifiedBy>
  <dcterms:modified xsi:type="dcterms:W3CDTF">2006-09-22T04:47:47Z</dcterms:modified>
  <cp:revision>9</cp:revision>
  <dc:subject/>
  <dc:title>幻灯片 1</dc:title>
</cp:coreProperties>
</file>