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F6D-CC51-44F9-A72C-F8FD419B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19B-5272-48CA-B0CB-DCEA2533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94A-F583-402A-B65F-25A91EBF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969-9CCD-460C-B705-554AEF7C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D91-7479-4FFB-99BF-2AE063F7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2B50-D0E3-4CBE-9CD3-61013B51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238E-944B-4849-9ECA-C96C42D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1A07-88A1-4F43-83A9-436DA5AE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A996-F717-4BF1-9B01-684452AD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6541-3322-4CB6-9DE8-4526E3AF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13F-BD3C-49E4-9844-E76BD5E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4C7-2364-46C9-BFC0-4FA1747B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778E-B66B-4B00-99E4-D629BB1D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C272-7541-4D67-ADFB-F6F9FCA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1FC3-B850-4493-94B3-11564C35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E968-5493-4813-915E-4D91810F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E454-B894-49AF-A9D2-A9BDAAA6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38C-4EC1-4952-AD1F-C8C0DA6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980-66BF-4F03-B524-6D8E8A5A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AB0-9359-4AD6-AEC1-676F79E8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EF3-AB3D-4241-81C5-E09D187F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EA1-260A-451F-BE72-BC7E72D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F8B-B6CD-4072-A40B-1F16C953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4A5-2354-4DA1-8109-941DCC29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08BE-5266-44E7-B6F8-EA74FCDF159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52B5-D83A-4B17-BE57-735E8492B25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427640" y="3213000"/>
            <a:ext cx="4000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保持乐观的心态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85" name=""/>
          <p:cNvSpPr/>
          <p:nvPr/>
        </p:nvSpPr>
        <p:spPr>
          <a:xfrm>
            <a:off x="5295960" y="458136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大丰市万盈二中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刘广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52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你是这样考虑的吗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保持乐观心态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挫折中分析失败的原因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主动寻找出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继续努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知难而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取得了进步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消极悲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一蹶不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此对学习失去了信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我保持积极乐观的态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因为课本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活丰富多彩，充满酸、甜、苦、辣。乐观在于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睡觉前，说一声：今天我充实，明天会更好。继续努力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419640" y="314172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谢谢光临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鸟说：“我从天空中飞过，但天空中没有留下我的痕迹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合课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回答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小鸟的话反映了它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泰戈尔的话反映了他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这共同说明了课本中一个什么观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7315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某公司老板派了两个职员到非洲某地考察鞋业市场。结果发现那儿的人都习惯赤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你是职员之一，你认为鞋子在那会有市场吗？回来后，你将怎样向老板汇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他同学有不同的结论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观点会不一致？你比较欣赏哪一种观点？从课文中找出理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些说明了在日常生活中，我们应该保持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2098800"/>
            <a:ext cx="64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阅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1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材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思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面对蜘蛛在非常滑的墙壁上屡爬屡掉、屡掉屡爬的情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个人的看法不同。这说明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保持乐观的心态，你应选择哪种看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平时的学习、生活中，如果遇到困难或难题时，应该怎样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《鲁滨孙漂流记》中，鲁滨孙漂流到一个孤岛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将要面对什么样的情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不如意的处境中，他为什么能够生存下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对我们有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学不小心踩了你，或污水、粥、泥浆碰脏了你的衣服，把你的书碰掉地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可能怎么做？会有什么后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应该怎么做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过对比，我们得到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7921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巩固训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谁选得又快又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这告诉我们：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学会“爱”别人，宽容别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借助运动以保持健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善于从生活中发现积极的一面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保持乐观的心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我们在生活中遇到不如意的事情时，正确的态度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善于在不如意中发现比挫折更有价值的积极的一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忍一忍就过去了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哎，自认倒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下列说法正确的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面对同样的生活，人们的态度是一样的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地看待生活，眼中的世界充满希望，生活中到处是机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的心态要求我们只要看生活和工作中的积极的顺利的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保持乐观的心态，要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认识到每个人的心态都是自己选择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热爱生活，善于从身边寻找快乐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正确对待生活中的不如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借助运动以保持健康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会“爱”别人，宽容别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③⑤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②④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②③④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体验生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身边的同学在学习中遇到困难和挫折时，他们的态度分别是怎样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认为对待生活的正确态度是什么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2:11:09Z</dcterms:created>
  <dc:creator>微软用户</dc:creator>
  <dc:description/>
  <dc:language>en-US</dc:language>
  <cp:lastModifiedBy>lgr</cp:lastModifiedBy>
  <dcterms:modified xsi:type="dcterms:W3CDTF">2006-09-22T04:47:47Z</dcterms:modified>
  <cp:revision>9</cp:revision>
  <dc:subject/>
  <dc:title>幻灯片 1</dc:title>
</cp:coreProperties>
</file>