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8.wmf" ContentType="image/x-wmf"/>
  <Override PartName="/ppt/media/image37.jpeg" ContentType="image/jpeg"/>
  <Override PartName="/ppt/media/image23.jpeg" ContentType="image/jpeg"/>
  <Override PartName="/ppt/media/image12.png" ContentType="image/png"/>
  <Override PartName="/ppt/media/image44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png" ContentType="image/png"/>
  <Override PartName="/ppt/media/image48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0BD-0F26-4464-9ABA-56E359D3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E52-4626-4E7F-9D34-B58385DE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76E-8845-4E14-8997-CEE9DC67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B27-C4CE-4DB2-BACE-44A7FDEE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15A4-4DC9-4561-9C30-528FE9E7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CD58-7B23-46FC-BC7D-76D4224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B8F9-F7E0-4941-85A1-01239D18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40D6-9897-498A-9A1A-D792CBEC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1449-67FB-4359-B686-842AF7B5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9CF8-4CF5-469B-BBE7-17729B45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E0A9-F95C-4925-8C7D-7AFEFB46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7FB-E81B-4768-B8CD-79B4363E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7119-5142-41F6-BA29-0BE0E129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6B21-91AE-44DC-95AE-3B576882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10FC-66A9-49C7-98F5-051BFFCF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6331-D08E-4D68-AE44-F0A03C4A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E568-8170-4E3F-9C0B-D470C95F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3BFD-56C1-4E7C-8D76-DC3FAD6C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366B5-8825-4E4A-96BE-BAE885C3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8BEA-D9B3-4B1D-9BAA-8FDAA85C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181C-231E-475B-852D-ABFD9232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8028-CA25-4DCF-B8C4-ABF09A78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305-7ABC-44F2-A923-95537426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5F9A3-C31A-415C-8C57-8218B64E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1310-BC20-435E-AE54-8B79BF23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F3C67-0192-41FD-84CE-F20D45FE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83FD-B88A-4497-AD28-E432BE19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67CE2-5226-4BDF-B8C5-A16912ED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4906-D553-44B6-8AE0-A12CD6FE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A3C9-C9AD-4BB9-A020-09BA0BB5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5F213-6EAD-445B-9789-DBDA5310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A687D-7DC7-47A2-8DB1-C255D38D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71E94-A3FC-4615-B166-C7BA7859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CC7-2A0B-48F9-BEC3-B0980868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0526-E74F-4A1F-99EC-61BDECC5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E1760-5646-4B19-9E09-C604777C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C72F-C992-4936-832A-1D3CAE1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7A8DC-3886-453A-8DBF-93D0D486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4D10-45C1-4EB2-A694-E7E3208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4A0D-8673-4B3C-AAD2-754E4A2A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4E749-E41A-4919-8FDD-91D3D2C2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0D255-B2A6-4214-9BAF-5C0D846C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E35A-7E47-463B-8388-BA471DF5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471B9-A4DC-4B22-88AF-23F02280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99D-7397-4D7E-9001-E0484D32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B940-C5BE-444A-8FD1-C26ED669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89FF8-DC1A-4F65-832B-65703BF5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8420-8DBB-41B8-9913-66317126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8CE06-01D9-4101-8144-672AFC35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4A3DA-56BD-4C1C-ADB3-A4AD0D1B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CB03D-15A5-4526-90FD-FE08C46B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0364-AAFB-4379-BDBB-C8148C48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9EB53-7C3A-4BD9-AEDC-CE1EC4DB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C855B-C57C-4E51-89D2-DA37D183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25C2-F67E-43C5-AA69-8E1887E8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112-F007-4195-B0DF-90278BCA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8A899-469E-4F2C-A54F-78F0588C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964-839D-4475-AFC8-FB65AE3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4F8-6ADF-4B34-8FD4-F8FA64F0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506-BBAE-4409-8D0C-F3092DC3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9CB5-616C-4FB2-A6E1-96906ECFDD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55E2-6942-40B8-94E9-2B6035CD38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FB08-9D80-4E2A-86EF-45F2E34448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9516-014E-49B3-84FD-49D5F0280C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70BE-F7BE-4A52-8CDF-E947C52E9D3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10.cbern.gov.cn/computer/upload/c2004/200420140988/xinshang/default2.htm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.xinhuanet.com/forum/2004-10/29/xinsrc_3221001281446630269571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image" Target="../media/image32.gif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050920" y="3500280"/>
            <a:ext cx="4886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关爱社会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25" name=""/>
          <p:cNvSpPr/>
          <p:nvPr/>
        </p:nvSpPr>
        <p:spPr>
          <a:xfrm>
            <a:off x="2462040" y="5373720"/>
            <a:ext cx="382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惠州市南山学校  李大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问一问：上世纪七十年代、八十年代的三大件分别是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想一想：这种幸福来之不易，其原因是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听一听：《春天的故事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842000"/>
            <a:ext cx="302400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二、社会问题不容忽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380000" y="1628640"/>
            <a:ext cx="86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  <a:ea typeface="黑体"/>
              </a:rPr>
              <a:t>防恐演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400040"/>
            <a:ext cx="756144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088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834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0248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0881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地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9929880" cy="70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艾滋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635280" y="260280"/>
            <a:ext cx="5140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一、社会发展日新月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58920" y="2349360"/>
            <a:ext cx="4103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瞧一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28" name="" descr="按此在新窗口浏览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14960"/>
            <a:ext cx="2954520" cy="2093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93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414440" y="0"/>
            <a:ext cx="63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547640" y="19080"/>
            <a:ext cx="720108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53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多子多福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a36.JPG (12039 bytes)"/>
          <p:cNvPicPr/>
          <p:nvPr/>
        </p:nvPicPr>
        <p:blipFill>
          <a:blip r:embed="rId1"/>
          <a:stretch/>
        </p:blipFill>
        <p:spPr>
          <a:xfrm>
            <a:off x="1066680" y="149400"/>
            <a:ext cx="3962520" cy="3051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066680" y="3402000"/>
            <a:ext cx="4038840" cy="3151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867280" y="5668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满为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49416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人口增长示意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838080" y="1219320"/>
          <a:ext cx="7323120" cy="48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32312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、印、美等国万人中的在校大学生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15960" y="1400040"/>
          <a:ext cx="6104160" cy="40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400040"/>
                    <a:ext cx="610416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107820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天安门内外垃圾遍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244840" cy="6977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0360" cy="5545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4000" y="57340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黄埔油库门口油罐车车龙长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物物种加速灭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26880" y="685800"/>
            <a:ext cx="8588520" cy="5938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34356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1295280" y="9907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气污染严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50000" cy="5772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90440" y="838080"/>
            <a:ext cx="8801280" cy="5761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1981080" y="10666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07600" cy="58752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水体污染严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263520" y="685800"/>
            <a:ext cx="8880480" cy="5761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8686800" cy="54640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396720" y="685800"/>
            <a:ext cx="8366400" cy="6035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垃圾包围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城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686800" cy="5543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0" y="1200240"/>
            <a:ext cx="9144000" cy="56577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263520" y="1074600"/>
            <a:ext cx="8880480" cy="578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51640" y="1413000"/>
            <a:ext cx="8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儿子被拐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70428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380360" y="1484280"/>
            <a:ext cx="79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饿晕火车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1116000"/>
            <a:ext cx="6919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、我们即将行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看了这些图片，想一想，我们作青少年该怎样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612720" y="0"/>
            <a:ext cx="975672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71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1280" y="981000"/>
            <a:ext cx="81010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琥珀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我们、青少年应该做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、增强忧患意识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、培养回报社会意识和亲社会行为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、服务社会，有所作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、忧患意识：关注社会、国家、人民，对其可能的危难抱有警惕，并激发战胜困境的决心和勇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、亲社会行为：有利于社会和他人的行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、我们享用的每一件物品，得到的每一种帮助，无不是他人的智慧、劳动和爱心的付出，因此，尽力回报社会就是我们理所当然的选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-184320"/>
            <a:ext cx="10874520" cy="7042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68360" y="4581360"/>
            <a:ext cx="3565440" cy="16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查一查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155736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琥珀"/>
              </a:rPr>
              <a:t>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隶书"/>
              </a:rPr>
              <a:t>青少年可以参加哪些服务社会的活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612360" cy="85694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你想为社会做点什么？具体怎么做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116000" y="4724280"/>
            <a:ext cx="3600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行动方案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-184320"/>
            <a:ext cx="10874520" cy="70423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32748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1400" y="0"/>
            <a:ext cx="67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1671480"/>
            <a:ext cx="81360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019640" y="836640"/>
            <a:ext cx="91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Arial"/>
                <a:ea typeface="黑体"/>
              </a:rPr>
              <a:t>文化生活丰富多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1920"/>
            <a:ext cx="68403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1:47:04Z</dcterms:created>
  <dc:creator>lidafu</dc:creator>
  <dc:description/>
  <dc:language>en-US</dc:language>
  <cp:lastModifiedBy>lidafu</cp:lastModifiedBy>
  <dcterms:modified xsi:type="dcterms:W3CDTF">2005-12-30T11:47:42Z</dcterms:modified>
  <cp:revision>9</cp:revision>
  <dc:subject/>
  <dc:title>幻灯片 1</dc:title>
</cp:coreProperties>
</file>